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DE116-2A04-420D-BA93-3EBE067AD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D7028-34B7-4417-A377-EB62661E9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4B0625-80EA-43D4-9167-C3DB793375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3B8CFD-C7E2-4D63-84DD-10999D676F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57CA40-2A80-4D72-BFD8-67C131F5AB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328E95-7399-4843-8B3C-8313121270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CE587A-93AC-4BA0-A100-CB1611EA50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DCF0C4-C134-42E7-A723-1DA6D53324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8C4EEC-8AD1-4D2A-9336-268D755ACF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91BAA5-5F94-4D97-B0CC-FB9E1F5EAC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92B539-C08D-4368-82EB-20061C96F8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0EF7D9-BE9B-4366-BB13-18C00A4743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4B712-8E4E-43CA-9F9A-A8E8436BA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7A17DC-CE73-4CBF-9764-C6C673D508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638178-B3AA-4D35-802E-F113CBCF14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78850B-EBF5-4B04-9650-239B8425EE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1CF0CC-BF54-413B-8393-79E81AF434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5E09B6-1833-4B0E-B736-7B7BDCDABA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52632F-9D08-408C-954E-587097A589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221EE8-CEA4-4BB6-BDFE-780E1872E5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4850FB-A8CF-4227-9225-04065B773B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3D15D2-B2B8-4DDE-AF5A-BBB33DBB9A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7ECB024-EC4F-4F34-BF93-E85D23D1281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9A4E4-4CDC-422D-BC7E-DDFD625D0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A510D36-35BE-45C2-B38F-73D1E9DE6E5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81DDD7C-B6B7-494C-956D-D2065D9C5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7E64C1A-E686-46E8-90B0-6D5411016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67D95BA-6A55-467B-96A3-C33632FDB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22FF487-2F2A-42B5-8312-0CFE666E0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E6F406B-9CE6-44E0-B0A8-26F6731DA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EB20006-EFEF-4535-8696-CCFC4F8D9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F3B015-3827-48EF-88DE-0ECA35853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B4393-6377-4403-9B2A-ABDAFB086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C9E42C-C48D-4479-817C-1571092FD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F6746E-FCFF-4ACF-B789-BB552FD48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81A3D4B-5EBD-44DD-9C07-7DCDF3164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A49A1ED-0E23-48CC-9C95-5DB22D67F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F97D7E8-3064-4527-8E80-A83B74146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682459-A6BC-418B-B4EA-215D54EE17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03F196-CE35-41A2-AE12-80F6980B3C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0CDDC2-68E1-40FA-9E5A-EA504B05DF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849714-FFF0-4F0C-80A3-A4F0262D7D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4FAE7F-552B-4289-94DB-A34674502E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2DCB1-4D28-427E-B793-407DA38AB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F6035F-B60E-4A63-B677-562D8FA7F7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2F878-651A-4BCC-B13D-D9D964B15E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EC0DA-DA73-4171-A295-4FF079017A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C4B2F-FFD4-44A2-AE3A-90F6413D14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25B27B-EF1E-4484-ACB1-7EEF298F47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E85B52-2C12-4980-B72A-3153C0F8D1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885B8C-770A-4C73-A7FB-34B6B80473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CEC615-543C-4910-959E-ABED1C7CB1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FC9417-DBEF-421A-9B96-C27F3D9783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E4E724-E8E4-4447-9669-056D38CBC7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AB9FC-ED05-49B8-9AB4-F8836196D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6B0446-B624-46F4-BBC1-7B81D2AC2E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B40846-DD1F-4688-A60D-B9924231BB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BF7661-7DFF-4C9D-B0A2-253DC32231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BF7423-9438-466D-A53A-ABCD772D7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E0C80-45E5-4908-9B23-1837EBB0B9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3197FF-85E6-47D4-8FC4-7964AE2ED0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C4E6E6-5EFD-4648-B88B-2F4BFFB729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31F2E6-C90A-4BE7-8E3F-9D17CD93AB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44091B-3C5B-44E2-935A-B533658C91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7F41E1-46B0-4F04-B8E5-53FF6BBE86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333BA-24D3-41A9-BD04-A1E5333CF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2DD15C-7617-48D1-B91D-3928C42E60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BB8851-7826-4ED4-A73F-E31A2583A4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8F0990-CC2C-498E-BB34-B1E79C78E9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799FB0-B96E-4AEE-A6C4-972B394F3D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F03DA3-966B-4BBA-BE52-1621FFDCD8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00BC4A-3A68-401E-81DB-BC7F819BD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99C8D6-B68C-4FC0-B03A-FF70B8CA35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DC9095-B27F-4431-BB0E-D8BE930371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00380F-6431-4A0E-B7FE-5944D975B2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F2E534-BD73-4C16-9D44-972DFA0810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094AA-0D91-4DE5-987A-F79F5B8DF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E13DDB-B34D-4F9A-AD75-B420392557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D19687-BE26-4D9E-92F1-7750F1A95F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D5B36B-4363-4276-8CB0-F1D578CFAC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5B90B7-8B95-4102-8D8E-1414130606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8EE2AF-1C57-42B3-B6DB-B6270A3214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54054E-03F8-418F-9892-063F64947E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D8128F-AC9B-4A33-8F5E-926F48C5FD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02D6A-3DA6-4954-B29C-6AB45AD97E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B9AB7A-C2AD-4CA0-9410-C215C96626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C68C1D-CD07-4D69-8FF3-8E4CD42C49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6BB99-07B6-400B-A641-E6C46B2CC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9B6D82-5054-41D5-94A6-741CA707C9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4F40D6-9F5D-4B00-8E44-1CA7EB2032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0BC1F9-6759-40B2-BA95-8BB460E6A1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9197C9-AD56-4F46-800A-F879EC0C51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DC5389-3C1F-4B5B-AC7E-272CB3FDDB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91AB6B-F94D-4F20-A2EA-42B956845B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38AB95-76A7-4F57-B58D-5608481F23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A5A98C-7871-44D6-904A-7DDAC26352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E55F25-B3C4-477E-A088-8369D84272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375537-AE47-4A39-B127-A57313D5B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9358E-D2E5-4F34-B402-297036488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A5481A-3F61-4E39-B582-D85DDBD29E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947D4B-67B6-4436-B104-86D49E4B3C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40A7E7-3626-49CF-8FD3-26068044DA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36B6EA-F886-432D-87DF-438A83E7EC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702853-D7C1-4793-BC6D-ECB8125B02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F2AB33-3B2C-488F-96BB-20D446007D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8417AC-74B3-4703-9665-B4DB7022EE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3A37C8-A5D2-4B2D-8C7D-41130B3714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7DF26C-70CC-450B-A7BA-8E4EE126DF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DFA54C-225A-4781-8C0C-7375E22475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0BC2B-CD9E-4397-88AF-B1EE7026B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42899B-BD84-4712-BE60-F72C26F889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D47011-62F3-4804-A038-76F03DF5E2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C7D58-98E3-4460-8A29-4F7A8001F9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9EA15D-CD66-40C1-B3B9-A6349AA0CA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1EC85B-E3DC-4329-86A8-01488ADA77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6F0BFD-5FEB-42C4-A8C7-80E0DAEF51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88A57D-FF66-4558-951D-9A4274C72D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ADB7BE-B535-4124-9606-21453B41EF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FD5824-CF2A-455B-AEB7-0FFCDD0D5A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7ABC72-C066-41A8-BCBA-682FC5CD52F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ffffff"/>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200" spc="-1" strike="noStrike">
                <a:solidFill>
                  <a:srgbClr val="ffffff"/>
                </a:solidFill>
                <a:latin typeface="Times New Roman"/>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200" spc="-1" strike="noStrike">
                <a:solidFill>
                  <a:srgbClr val="ffffff"/>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5C7B6-59FF-4F32-A77E-72D73FC36F27}" type="slidenum">
              <a:rPr b="0" lang="he-I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00" name=""/>
          <p:cNvGrpSpPr/>
          <p:nvPr/>
        </p:nvGrpSpPr>
        <p:grpSpPr>
          <a:xfrm>
            <a:off x="2010960" y="245520"/>
            <a:ext cx="7128000" cy="7923600"/>
            <a:chOff x="2010960" y="245520"/>
            <a:chExt cx="7128000" cy="7923600"/>
          </a:xfrm>
        </p:grpSpPr>
        <p:grpSp>
          <p:nvGrpSpPr>
            <p:cNvPr id="601" name=""/>
            <p:cNvGrpSpPr/>
            <p:nvPr/>
          </p:nvGrpSpPr>
          <p:grpSpPr>
            <a:xfrm>
              <a:off x="3483000" y="954000"/>
              <a:ext cx="946080" cy="709560"/>
              <a:chOff x="3483000" y="954000"/>
              <a:chExt cx="946080" cy="709560"/>
            </a:xfrm>
          </p:grpSpPr>
          <p:sp>
            <p:nvSpPr>
              <p:cNvPr id="602"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3"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04" name=""/>
            <p:cNvGrpSpPr/>
            <p:nvPr/>
          </p:nvGrpSpPr>
          <p:grpSpPr>
            <a:xfrm>
              <a:off x="2010960" y="245520"/>
              <a:ext cx="7128000" cy="7705800"/>
              <a:chOff x="2010960" y="245520"/>
              <a:chExt cx="7128000" cy="7705800"/>
            </a:xfrm>
          </p:grpSpPr>
          <p:grpSp>
            <p:nvGrpSpPr>
              <p:cNvPr id="605" name=""/>
              <p:cNvGrpSpPr/>
              <p:nvPr/>
            </p:nvGrpSpPr>
            <p:grpSpPr>
              <a:xfrm>
                <a:off x="2010960" y="245520"/>
                <a:ext cx="6891120" cy="5452200"/>
                <a:chOff x="2010960" y="245520"/>
                <a:chExt cx="6891120" cy="5452200"/>
              </a:xfrm>
            </p:grpSpPr>
            <p:grpSp>
              <p:nvGrpSpPr>
                <p:cNvPr id="606" name=""/>
                <p:cNvGrpSpPr/>
                <p:nvPr/>
              </p:nvGrpSpPr>
              <p:grpSpPr>
                <a:xfrm>
                  <a:off x="3735720" y="1266120"/>
                  <a:ext cx="3599280" cy="2652120"/>
                  <a:chOff x="3735720" y="1266120"/>
                  <a:chExt cx="3599280" cy="2652120"/>
                </a:xfrm>
              </p:grpSpPr>
              <p:sp>
                <p:nvSpPr>
                  <p:cNvPr id="607"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8"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09" name=""/>
                <p:cNvGrpSpPr/>
                <p:nvPr/>
              </p:nvGrpSpPr>
              <p:grpSpPr>
                <a:xfrm>
                  <a:off x="2010960" y="245520"/>
                  <a:ext cx="6891120" cy="5452200"/>
                  <a:chOff x="2010960" y="245520"/>
                  <a:chExt cx="6891120" cy="5452200"/>
                </a:xfrm>
              </p:grpSpPr>
              <p:grpSp>
                <p:nvGrpSpPr>
                  <p:cNvPr id="610" name=""/>
                  <p:cNvGrpSpPr/>
                  <p:nvPr/>
                </p:nvGrpSpPr>
                <p:grpSpPr>
                  <a:xfrm>
                    <a:off x="5762160" y="2322000"/>
                    <a:ext cx="2558520" cy="2742840"/>
                    <a:chOff x="5762160" y="2322000"/>
                    <a:chExt cx="2558520" cy="2742840"/>
                  </a:xfrm>
                </p:grpSpPr>
                <p:sp>
                  <p:nvSpPr>
                    <p:cNvPr id="611"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2"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13" name=""/>
                  <p:cNvGrpSpPr/>
                  <p:nvPr/>
                </p:nvGrpSpPr>
                <p:grpSpPr>
                  <a:xfrm>
                    <a:off x="5787720" y="2148480"/>
                    <a:ext cx="3040200" cy="2529360"/>
                    <a:chOff x="5787720" y="2148480"/>
                    <a:chExt cx="3040200" cy="2529360"/>
                  </a:xfrm>
                </p:grpSpPr>
                <p:sp>
                  <p:nvSpPr>
                    <p:cNvPr id="614"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5"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16" name=""/>
                  <p:cNvGrpSpPr/>
                  <p:nvPr/>
                </p:nvGrpSpPr>
                <p:grpSpPr>
                  <a:xfrm>
                    <a:off x="5776200" y="2065320"/>
                    <a:ext cx="3096360" cy="1992600"/>
                    <a:chOff x="5776200" y="2065320"/>
                    <a:chExt cx="3096360" cy="1992600"/>
                  </a:xfrm>
                </p:grpSpPr>
                <p:sp>
                  <p:nvSpPr>
                    <p:cNvPr id="617"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8"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19" name=""/>
                  <p:cNvGrpSpPr/>
                  <p:nvPr/>
                </p:nvGrpSpPr>
                <p:grpSpPr>
                  <a:xfrm>
                    <a:off x="5768280" y="1970280"/>
                    <a:ext cx="3133800" cy="1608120"/>
                    <a:chOff x="5768280" y="1970280"/>
                    <a:chExt cx="3133800" cy="1608120"/>
                  </a:xfrm>
                </p:grpSpPr>
                <p:sp>
                  <p:nvSpPr>
                    <p:cNvPr id="620"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1"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22" name=""/>
                  <p:cNvGrpSpPr/>
                  <p:nvPr/>
                </p:nvGrpSpPr>
                <p:grpSpPr>
                  <a:xfrm>
                    <a:off x="5806080" y="1879920"/>
                    <a:ext cx="2940120" cy="1001880"/>
                    <a:chOff x="5806080" y="1879920"/>
                    <a:chExt cx="2940120" cy="1001880"/>
                  </a:xfrm>
                </p:grpSpPr>
                <p:sp>
                  <p:nvSpPr>
                    <p:cNvPr id="623"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4"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25" name=""/>
                  <p:cNvGrpSpPr/>
                  <p:nvPr/>
                </p:nvGrpSpPr>
                <p:grpSpPr>
                  <a:xfrm>
                    <a:off x="5851440" y="1815480"/>
                    <a:ext cx="2658600" cy="446040"/>
                    <a:chOff x="5851440" y="1815480"/>
                    <a:chExt cx="2658600" cy="446040"/>
                  </a:xfrm>
                </p:grpSpPr>
                <p:sp>
                  <p:nvSpPr>
                    <p:cNvPr id="626"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7"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28" name=""/>
                  <p:cNvGrpSpPr/>
                  <p:nvPr/>
                </p:nvGrpSpPr>
                <p:grpSpPr>
                  <a:xfrm>
                    <a:off x="5788440" y="1303920"/>
                    <a:ext cx="2364120" cy="787320"/>
                    <a:chOff x="5788440" y="1303920"/>
                    <a:chExt cx="2364120" cy="787320"/>
                  </a:xfrm>
                </p:grpSpPr>
                <p:sp>
                  <p:nvSpPr>
                    <p:cNvPr id="629"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0"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31" name=""/>
                  <p:cNvGrpSpPr/>
                  <p:nvPr/>
                </p:nvGrpSpPr>
                <p:grpSpPr>
                  <a:xfrm>
                    <a:off x="2646720" y="2473920"/>
                    <a:ext cx="2556720" cy="2742120"/>
                    <a:chOff x="2646720" y="2473920"/>
                    <a:chExt cx="2556720" cy="2742120"/>
                  </a:xfrm>
                </p:grpSpPr>
                <p:sp>
                  <p:nvSpPr>
                    <p:cNvPr id="632"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3"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34" name=""/>
                  <p:cNvGrpSpPr/>
                  <p:nvPr/>
                </p:nvGrpSpPr>
                <p:grpSpPr>
                  <a:xfrm>
                    <a:off x="2085120" y="2366640"/>
                    <a:ext cx="3041280" cy="2529720"/>
                    <a:chOff x="2085120" y="2366640"/>
                    <a:chExt cx="3041280" cy="2529720"/>
                  </a:xfrm>
                </p:grpSpPr>
                <p:sp>
                  <p:nvSpPr>
                    <p:cNvPr id="635"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6"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37" name=""/>
                  <p:cNvGrpSpPr/>
                  <p:nvPr/>
                </p:nvGrpSpPr>
                <p:grpSpPr>
                  <a:xfrm>
                    <a:off x="2040840" y="2283480"/>
                    <a:ext cx="3096360" cy="1992600"/>
                    <a:chOff x="2040840" y="2283480"/>
                    <a:chExt cx="3096360" cy="1992600"/>
                  </a:xfrm>
                </p:grpSpPr>
                <p:sp>
                  <p:nvSpPr>
                    <p:cNvPr id="638"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9"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40" name=""/>
                  <p:cNvGrpSpPr/>
                  <p:nvPr/>
                </p:nvGrpSpPr>
                <p:grpSpPr>
                  <a:xfrm>
                    <a:off x="2010960" y="2188440"/>
                    <a:ext cx="3134160" cy="1607760"/>
                    <a:chOff x="2010960" y="2188440"/>
                    <a:chExt cx="3134160" cy="1607760"/>
                  </a:xfrm>
                </p:grpSpPr>
                <p:sp>
                  <p:nvSpPr>
                    <p:cNvPr id="641"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2"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43" name=""/>
                  <p:cNvGrpSpPr/>
                  <p:nvPr/>
                </p:nvGrpSpPr>
                <p:grpSpPr>
                  <a:xfrm>
                    <a:off x="2166120" y="2098080"/>
                    <a:ext cx="2940840" cy="1002240"/>
                    <a:chOff x="2166120" y="2098080"/>
                    <a:chExt cx="2940840" cy="1002240"/>
                  </a:xfrm>
                </p:grpSpPr>
                <p:sp>
                  <p:nvSpPr>
                    <p:cNvPr id="644"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5"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46" name=""/>
                  <p:cNvGrpSpPr/>
                  <p:nvPr/>
                </p:nvGrpSpPr>
                <p:grpSpPr>
                  <a:xfrm>
                    <a:off x="2403720" y="2033640"/>
                    <a:ext cx="2658600" cy="446040"/>
                    <a:chOff x="2403720" y="2033640"/>
                    <a:chExt cx="2658600" cy="446040"/>
                  </a:xfrm>
                </p:grpSpPr>
                <p:sp>
                  <p:nvSpPr>
                    <p:cNvPr id="647"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48"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49" name=""/>
                  <p:cNvGrpSpPr/>
                  <p:nvPr/>
                </p:nvGrpSpPr>
                <p:grpSpPr>
                  <a:xfrm>
                    <a:off x="2760840" y="1522440"/>
                    <a:ext cx="2363760" cy="787320"/>
                    <a:chOff x="2760840" y="1522440"/>
                    <a:chExt cx="2363760" cy="787320"/>
                  </a:xfrm>
                </p:grpSpPr>
                <p:sp>
                  <p:nvSpPr>
                    <p:cNvPr id="650"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1"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52" name=""/>
                  <p:cNvGrpSpPr/>
                  <p:nvPr/>
                </p:nvGrpSpPr>
                <p:grpSpPr>
                  <a:xfrm>
                    <a:off x="2887200" y="1236600"/>
                    <a:ext cx="2325240" cy="1084320"/>
                    <a:chOff x="2887200" y="1236600"/>
                    <a:chExt cx="2325240" cy="1084320"/>
                  </a:xfrm>
                </p:grpSpPr>
                <p:sp>
                  <p:nvSpPr>
                    <p:cNvPr id="653"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4"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55" name=""/>
                  <p:cNvGrpSpPr/>
                  <p:nvPr/>
                </p:nvGrpSpPr>
                <p:grpSpPr>
                  <a:xfrm>
                    <a:off x="3160440" y="831240"/>
                    <a:ext cx="2170800" cy="1508040"/>
                    <a:chOff x="3160440" y="831240"/>
                    <a:chExt cx="2170800" cy="1508040"/>
                  </a:xfrm>
                </p:grpSpPr>
                <p:sp>
                  <p:nvSpPr>
                    <p:cNvPr id="656"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7"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58" name=""/>
                  <p:cNvGrpSpPr/>
                  <p:nvPr/>
                </p:nvGrpSpPr>
                <p:grpSpPr>
                  <a:xfrm>
                    <a:off x="3437640" y="436320"/>
                    <a:ext cx="1987200" cy="1831320"/>
                    <a:chOff x="3437640" y="436320"/>
                    <a:chExt cx="1987200" cy="1831320"/>
                  </a:xfrm>
                </p:grpSpPr>
                <p:sp>
                  <p:nvSpPr>
                    <p:cNvPr id="659"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0"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61" name=""/>
                  <p:cNvGrpSpPr/>
                  <p:nvPr/>
                </p:nvGrpSpPr>
                <p:grpSpPr>
                  <a:xfrm>
                    <a:off x="4026960" y="335520"/>
                    <a:ext cx="1461240" cy="1885680"/>
                    <a:chOff x="4026960" y="335520"/>
                    <a:chExt cx="1461240" cy="1885680"/>
                  </a:xfrm>
                </p:grpSpPr>
                <p:sp>
                  <p:nvSpPr>
                    <p:cNvPr id="662"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3"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64" name=""/>
                  <p:cNvGrpSpPr/>
                  <p:nvPr/>
                </p:nvGrpSpPr>
                <p:grpSpPr>
                  <a:xfrm>
                    <a:off x="4448160" y="245520"/>
                    <a:ext cx="1121760" cy="1946520"/>
                    <a:chOff x="4448160" y="245520"/>
                    <a:chExt cx="1121760" cy="1946520"/>
                  </a:xfrm>
                </p:grpSpPr>
                <p:sp>
                  <p:nvSpPr>
                    <p:cNvPr id="665"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6"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67" name=""/>
                  <p:cNvGrpSpPr/>
                  <p:nvPr/>
                </p:nvGrpSpPr>
                <p:grpSpPr>
                  <a:xfrm>
                    <a:off x="5661720" y="952560"/>
                    <a:ext cx="2317320" cy="1112040"/>
                    <a:chOff x="5661720" y="952560"/>
                    <a:chExt cx="2317320" cy="1112040"/>
                  </a:xfrm>
                </p:grpSpPr>
                <p:sp>
                  <p:nvSpPr>
                    <p:cNvPr id="668"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9"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70" name=""/>
                  <p:cNvGrpSpPr/>
                  <p:nvPr/>
                </p:nvGrpSpPr>
                <p:grpSpPr>
                  <a:xfrm>
                    <a:off x="5529600" y="626400"/>
                    <a:ext cx="2198880" cy="1451160"/>
                    <a:chOff x="5529600" y="626400"/>
                    <a:chExt cx="2198880" cy="1451160"/>
                  </a:xfrm>
                </p:grpSpPr>
                <p:sp>
                  <p:nvSpPr>
                    <p:cNvPr id="671"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2"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673"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4"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675" name=""/>
                  <p:cNvGrpSpPr/>
                  <p:nvPr/>
                </p:nvGrpSpPr>
                <p:grpSpPr>
                  <a:xfrm>
                    <a:off x="5355720" y="270000"/>
                    <a:ext cx="1196280" cy="1901160"/>
                    <a:chOff x="5355720" y="270000"/>
                    <a:chExt cx="1196280" cy="1901160"/>
                  </a:xfrm>
                </p:grpSpPr>
                <p:sp>
                  <p:nvSpPr>
                    <p:cNvPr id="676"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7"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78" name=""/>
                  <p:cNvGrpSpPr/>
                  <p:nvPr/>
                </p:nvGrpSpPr>
                <p:grpSpPr>
                  <a:xfrm>
                    <a:off x="5347440" y="388800"/>
                    <a:ext cx="1891440" cy="1796760"/>
                    <a:chOff x="5347440" y="388800"/>
                    <a:chExt cx="1891440" cy="1796760"/>
                  </a:xfrm>
                </p:grpSpPr>
                <p:sp>
                  <p:nvSpPr>
                    <p:cNvPr id="679"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0"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81" name=""/>
                  <p:cNvGrpSpPr/>
                  <p:nvPr/>
                </p:nvGrpSpPr>
                <p:grpSpPr>
                  <a:xfrm>
                    <a:off x="5458320" y="292680"/>
                    <a:ext cx="426960" cy="1795320"/>
                    <a:chOff x="5458320" y="292680"/>
                    <a:chExt cx="426960" cy="1795320"/>
                  </a:xfrm>
                </p:grpSpPr>
                <p:sp>
                  <p:nvSpPr>
                    <p:cNvPr id="682"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3"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84" name=""/>
                  <p:cNvGrpSpPr/>
                  <p:nvPr/>
                </p:nvGrpSpPr>
                <p:grpSpPr>
                  <a:xfrm>
                    <a:off x="3062880" y="2530440"/>
                    <a:ext cx="2195280" cy="3003480"/>
                    <a:chOff x="3062880" y="2530440"/>
                    <a:chExt cx="2195280" cy="3003480"/>
                  </a:xfrm>
                </p:grpSpPr>
                <p:sp>
                  <p:nvSpPr>
                    <p:cNvPr id="685"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6"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87" name=""/>
                  <p:cNvGrpSpPr/>
                  <p:nvPr/>
                </p:nvGrpSpPr>
                <p:grpSpPr>
                  <a:xfrm>
                    <a:off x="3791520" y="2650320"/>
                    <a:ext cx="1482840" cy="3000240"/>
                    <a:chOff x="3791520" y="2650320"/>
                    <a:chExt cx="1482840" cy="3000240"/>
                  </a:xfrm>
                </p:grpSpPr>
                <p:sp>
                  <p:nvSpPr>
                    <p:cNvPr id="688"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9"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90" name=""/>
                  <p:cNvGrpSpPr/>
                  <p:nvPr/>
                </p:nvGrpSpPr>
                <p:grpSpPr>
                  <a:xfrm>
                    <a:off x="4509000" y="2703240"/>
                    <a:ext cx="874800" cy="2927520"/>
                    <a:chOff x="4509000" y="2703240"/>
                    <a:chExt cx="874800" cy="2927520"/>
                  </a:xfrm>
                </p:grpSpPr>
                <p:sp>
                  <p:nvSpPr>
                    <p:cNvPr id="691"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2"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93" name=""/>
                  <p:cNvGrpSpPr/>
                  <p:nvPr/>
                </p:nvGrpSpPr>
                <p:grpSpPr>
                  <a:xfrm>
                    <a:off x="5678280" y="2482920"/>
                    <a:ext cx="2280240" cy="2953800"/>
                    <a:chOff x="5678280" y="2482920"/>
                    <a:chExt cx="2280240" cy="2953800"/>
                  </a:xfrm>
                </p:grpSpPr>
                <p:sp>
                  <p:nvSpPr>
                    <p:cNvPr id="694"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5"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96" name=""/>
                  <p:cNvGrpSpPr/>
                  <p:nvPr/>
                </p:nvGrpSpPr>
                <p:grpSpPr>
                  <a:xfrm>
                    <a:off x="5648400" y="2593440"/>
                    <a:ext cx="1758240" cy="3032280"/>
                    <a:chOff x="5648400" y="2593440"/>
                    <a:chExt cx="1758240" cy="3032280"/>
                  </a:xfrm>
                </p:grpSpPr>
                <p:sp>
                  <p:nvSpPr>
                    <p:cNvPr id="697"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8"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699" name=""/>
                  <p:cNvGrpSpPr/>
                  <p:nvPr/>
                </p:nvGrpSpPr>
                <p:grpSpPr>
                  <a:xfrm>
                    <a:off x="5576400" y="2710800"/>
                    <a:ext cx="1224720" cy="2986920"/>
                    <a:chOff x="5576400" y="2710800"/>
                    <a:chExt cx="1224720" cy="2986920"/>
                  </a:xfrm>
                </p:grpSpPr>
                <p:sp>
                  <p:nvSpPr>
                    <p:cNvPr id="700"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1"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702" name=""/>
                  <p:cNvGrpSpPr/>
                  <p:nvPr/>
                </p:nvGrpSpPr>
                <p:grpSpPr>
                  <a:xfrm>
                    <a:off x="5521320" y="2840760"/>
                    <a:ext cx="696960" cy="2777400"/>
                    <a:chOff x="5521320" y="2840760"/>
                    <a:chExt cx="696960" cy="2777400"/>
                  </a:xfrm>
                </p:grpSpPr>
                <p:sp>
                  <p:nvSpPr>
                    <p:cNvPr id="703"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4"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705" name=""/>
                  <p:cNvGrpSpPr/>
                  <p:nvPr/>
                </p:nvGrpSpPr>
                <p:grpSpPr>
                  <a:xfrm>
                    <a:off x="4960800" y="2887560"/>
                    <a:ext cx="663480" cy="2717640"/>
                    <a:chOff x="4960800" y="2887560"/>
                    <a:chExt cx="663480" cy="2717640"/>
                  </a:xfrm>
                </p:grpSpPr>
                <p:sp>
                  <p:nvSpPr>
                    <p:cNvPr id="706"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grpSp>
          <p:grpSp>
            <p:nvGrpSpPr>
              <p:cNvPr id="708" name=""/>
              <p:cNvGrpSpPr/>
              <p:nvPr/>
            </p:nvGrpSpPr>
            <p:grpSpPr>
              <a:xfrm>
                <a:off x="2175120" y="682560"/>
                <a:ext cx="6963840" cy="7268760"/>
                <a:chOff x="2175120" y="682560"/>
                <a:chExt cx="6963840" cy="7268760"/>
              </a:xfrm>
            </p:grpSpPr>
            <p:grpSp>
              <p:nvGrpSpPr>
                <p:cNvPr id="709" name=""/>
                <p:cNvGrpSpPr/>
                <p:nvPr/>
              </p:nvGrpSpPr>
              <p:grpSpPr>
                <a:xfrm>
                  <a:off x="2175120" y="682560"/>
                  <a:ext cx="6963840" cy="7268760"/>
                  <a:chOff x="2175120" y="682560"/>
                  <a:chExt cx="6963840" cy="7268760"/>
                </a:xfrm>
              </p:grpSpPr>
              <p:sp>
                <p:nvSpPr>
                  <p:cNvPr id="710"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1"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2"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3"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4"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5"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6"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717"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grpSp>
          <p:nvGrpSpPr>
            <p:cNvPr id="718" name=""/>
            <p:cNvGrpSpPr/>
            <p:nvPr/>
          </p:nvGrpSpPr>
          <p:grpSpPr>
            <a:xfrm>
              <a:off x="2342880" y="712800"/>
              <a:ext cx="6410160" cy="7456320"/>
              <a:chOff x="2342880" y="712800"/>
              <a:chExt cx="6410160" cy="7456320"/>
            </a:xfrm>
          </p:grpSpPr>
          <p:sp>
            <p:nvSpPr>
              <p:cNvPr id="719"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0"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1"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2"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3"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4"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5"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6"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7"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8"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9"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30"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31"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32"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
        <p:nvSpPr>
          <p:cNvPr id="73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34"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cc00"/>
                </a:solidFill>
                <a:latin typeface="Arial Blac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73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400" spc="-1" strike="noStrike">
                <a:solidFill>
                  <a:srgbClr val="ffcc00"/>
                </a:solidFill>
                <a:latin typeface="Arial Blac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736"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400" spc="-1" strike="noStrike">
                <a:solidFill>
                  <a:srgbClr val="ffcc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F5F72B-C0ED-4F74-B16D-48B48C909446}" type="slidenum">
              <a:rPr b="0" lang="he-IL"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ffffff"/>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200" spc="-1" strike="noStrike">
                <a:solidFill>
                  <a:srgbClr val="ffffff"/>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9DF400-C162-4B20-9D84-2B2261BA9E8F}" type="slidenum">
              <a:rPr b="0" lang="he-IL"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200" spc="-1" strike="noStrike">
                <a:solidFill>
                  <a:srgbClr val="ffffff"/>
                </a:solidFill>
                <a:latin typeface="Times New Roman"/>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400" spc="-1" strike="noStrike">
                <a:solidFill>
                  <a:srgbClr val="ffffff"/>
                </a:solidFill>
                <a:latin typeface="Times New Roman"/>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6"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400" spc="-1" strike="noStrike">
                <a:solidFill>
                  <a:srgbClr val="ffffff"/>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EEA48B-680E-4E2C-8EDF-0FA86D83972E}" type="slidenum">
              <a:rPr b="0" lang="he-I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64" name="PlaceHolder 2"/>
          <p:cNvSpPr>
            <a:spLocks noGrp="1"/>
          </p:cNvSpPr>
          <p:nvPr>
            <p:ph type="dt" idx="10"/>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400" spc="-1" strike="noStrike">
                <a:solidFill>
                  <a:srgbClr val="ffffff"/>
                </a:solidFill>
                <a:latin typeface="Times New Roman"/>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6" name="PlaceHolder 4"/>
          <p:cNvSpPr>
            <a:spLocks noGrp="1"/>
          </p:cNvSpPr>
          <p:nvPr>
            <p:ph type="sldNum" idx="12"/>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400" spc="-1" strike="noStrike">
                <a:solidFill>
                  <a:srgbClr val="ffffff"/>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9D389-B732-4856-BE7E-3444ECEA24FC}" type="slidenum">
              <a:rPr b="0" lang="he-I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03" name=""/>
          <p:cNvGrpSpPr/>
          <p:nvPr/>
        </p:nvGrpSpPr>
        <p:grpSpPr>
          <a:xfrm>
            <a:off x="0" y="6480"/>
            <a:ext cx="9140760" cy="6851520"/>
            <a:chOff x="0" y="6480"/>
            <a:chExt cx="9140760" cy="6851520"/>
          </a:xfrm>
        </p:grpSpPr>
        <p:sp>
          <p:nvSpPr>
            <p:cNvPr id="20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06" name=""/>
            <p:cNvGrpSpPr/>
            <p:nvPr/>
          </p:nvGrpSpPr>
          <p:grpSpPr>
            <a:xfrm>
              <a:off x="0" y="6480"/>
              <a:ext cx="9140760" cy="6851520"/>
              <a:chOff x="0" y="6480"/>
              <a:chExt cx="9140760" cy="6851520"/>
            </a:xfrm>
          </p:grpSpPr>
          <p:sp>
            <p:nvSpPr>
              <p:cNvPr id="20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1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18"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ffffff"/>
                </a:solidFill>
                <a:latin typeface="Tahom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19"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000" spc="-1" strike="noStrike">
                <a:solidFill>
                  <a:srgbClr val="ffffff"/>
                </a:solidFill>
                <a:latin typeface="Tahom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0"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000" spc="-1" strike="noStrike">
                <a:solidFill>
                  <a:srgbClr val="ffffff"/>
                </a:solidFill>
                <a:latin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D55EB-008F-47C0-A3F5-2C06EFA0357E}" type="slidenum">
              <a:rPr b="0" lang="he-IL"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57" name=""/>
          <p:cNvGrpSpPr/>
          <p:nvPr/>
        </p:nvGrpSpPr>
        <p:grpSpPr>
          <a:xfrm>
            <a:off x="0" y="6480"/>
            <a:ext cx="9140760" cy="6851520"/>
            <a:chOff x="0" y="6480"/>
            <a:chExt cx="9140760" cy="6851520"/>
          </a:xfrm>
        </p:grpSpPr>
        <p:grpSp>
          <p:nvGrpSpPr>
            <p:cNvPr id="258" name=""/>
            <p:cNvGrpSpPr/>
            <p:nvPr/>
          </p:nvGrpSpPr>
          <p:grpSpPr>
            <a:xfrm>
              <a:off x="0" y="1843200"/>
              <a:ext cx="9140760" cy="5014800"/>
              <a:chOff x="0" y="1843200"/>
              <a:chExt cx="9140760" cy="5014800"/>
            </a:xfrm>
          </p:grpSpPr>
          <p:sp>
            <p:nvSpPr>
              <p:cNvPr id="259"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0"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64" name=""/>
            <p:cNvGrpSpPr/>
            <p:nvPr/>
          </p:nvGrpSpPr>
          <p:grpSpPr>
            <a:xfrm>
              <a:off x="552600" y="6480"/>
              <a:ext cx="8588160" cy="6851520"/>
              <a:chOff x="552600" y="6480"/>
              <a:chExt cx="8588160" cy="6851520"/>
            </a:xfrm>
          </p:grpSpPr>
          <p:sp>
            <p:nvSpPr>
              <p:cNvPr id="26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
        <p:nvSpPr>
          <p:cNvPr id="27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72" name="PlaceHolder 2"/>
          <p:cNvSpPr>
            <a:spLocks noGrp="1"/>
          </p:cNvSpPr>
          <p:nvPr>
            <p:ph type="dt" idx="16"/>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000" spc="-1" strike="noStrike">
                <a:solidFill>
                  <a:srgbClr val="ffffff"/>
                </a:solidFill>
                <a:latin typeface="Tahom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73" name="PlaceHolder 3"/>
          <p:cNvSpPr>
            <a:spLocks noGrp="1"/>
          </p:cNvSpPr>
          <p:nvPr>
            <p:ph type="ftr" idx="17"/>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000" spc="-1" strike="noStrike">
                <a:solidFill>
                  <a:srgbClr val="ffffff"/>
                </a:solidFill>
                <a:latin typeface="Tahom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74" name="PlaceHolder 4"/>
          <p:cNvSpPr>
            <a:spLocks noGrp="1"/>
          </p:cNvSpPr>
          <p:nvPr>
            <p:ph type="sldNum" idx="18"/>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000" spc="-1" strike="noStrike">
                <a:solidFill>
                  <a:srgbClr val="ffffff"/>
                </a:solidFill>
                <a:latin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FE46E3-9C5E-48B0-B495-D591017C952E}" type="slidenum">
              <a:rPr b="0" lang="he-IL"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311" name=""/>
          <p:cNvGrpSpPr/>
          <p:nvPr/>
        </p:nvGrpSpPr>
        <p:grpSpPr>
          <a:xfrm>
            <a:off x="4716360" y="5345280"/>
            <a:ext cx="4427640" cy="1512720"/>
            <a:chOff x="4716360" y="5345280"/>
            <a:chExt cx="4427640" cy="1512720"/>
          </a:xfrm>
        </p:grpSpPr>
        <p:sp>
          <p:nvSpPr>
            <p:cNvPr id="312"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3"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4"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5"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6"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7"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8"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1"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2"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3"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4"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5"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6"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28"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eaeaea"/>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329"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200" spc="-1" strike="noStrike">
                <a:solidFill>
                  <a:srgbClr val="eaeaea"/>
                </a:solidFill>
                <a:latin typeface="Verdan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330"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200" spc="-1" strike="noStrike">
                <a:solidFill>
                  <a:srgbClr val="eaeaea"/>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3E66D-AB81-4CF6-A982-DF2C91B9D08C}" type="slidenum">
              <a:rPr b="0" lang="he-IL"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33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368" name=""/>
          <p:cNvGrpSpPr/>
          <p:nvPr/>
        </p:nvGrpSpPr>
        <p:grpSpPr>
          <a:xfrm>
            <a:off x="4716360" y="5345280"/>
            <a:ext cx="4427640" cy="1512720"/>
            <a:chOff x="4716360" y="5345280"/>
            <a:chExt cx="4427640" cy="1512720"/>
          </a:xfrm>
        </p:grpSpPr>
        <p:sp>
          <p:nvSpPr>
            <p:cNvPr id="369"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1"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2"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5"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6"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7"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8"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9"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0"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1"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2"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3"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38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385"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eaeaea"/>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386"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200" spc="-1" strike="noStrike">
                <a:solidFill>
                  <a:srgbClr val="eaeaea"/>
                </a:solidFill>
                <a:latin typeface="Verdan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387"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200" spc="-1" strike="noStrike">
                <a:solidFill>
                  <a:srgbClr val="eaeaea"/>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139DC-913D-4885-9922-A0B17C19C4FC}" type="slidenum">
              <a:rPr b="0" lang="he-IL" sz="1200" spc="-1" strike="noStrike">
                <a:solidFill>
                  <a:srgbClr val="eaeaea"/>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24" name=""/>
          <p:cNvGrpSpPr/>
          <p:nvPr/>
        </p:nvGrpSpPr>
        <p:grpSpPr>
          <a:xfrm>
            <a:off x="6273360" y="-21240"/>
            <a:ext cx="2966400" cy="3296160"/>
            <a:chOff x="6273360" y="-21240"/>
            <a:chExt cx="2966400" cy="3296160"/>
          </a:xfrm>
        </p:grpSpPr>
        <p:grpSp>
          <p:nvGrpSpPr>
            <p:cNvPr id="425" name=""/>
            <p:cNvGrpSpPr/>
            <p:nvPr/>
          </p:nvGrpSpPr>
          <p:grpSpPr>
            <a:xfrm>
              <a:off x="7566840" y="2500200"/>
              <a:ext cx="1004760" cy="753840"/>
              <a:chOff x="7566840" y="2500200"/>
              <a:chExt cx="1004760" cy="753840"/>
            </a:xfrm>
          </p:grpSpPr>
          <p:sp>
            <p:nvSpPr>
              <p:cNvPr id="426"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7"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28" name=""/>
            <p:cNvGrpSpPr/>
            <p:nvPr/>
          </p:nvGrpSpPr>
          <p:grpSpPr>
            <a:xfrm>
              <a:off x="7798320" y="1443600"/>
              <a:ext cx="1005120" cy="753840"/>
              <a:chOff x="7798320" y="1443600"/>
              <a:chExt cx="1005120" cy="753840"/>
            </a:xfrm>
          </p:grpSpPr>
          <p:sp>
            <p:nvSpPr>
              <p:cNvPr id="429"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31" name=""/>
            <p:cNvGrpSpPr/>
            <p:nvPr/>
          </p:nvGrpSpPr>
          <p:grpSpPr>
            <a:xfrm>
              <a:off x="6328800" y="0"/>
              <a:ext cx="1005120" cy="753840"/>
              <a:chOff x="6328800" y="0"/>
              <a:chExt cx="1005120" cy="753840"/>
            </a:xfrm>
          </p:grpSpPr>
          <p:sp>
            <p:nvSpPr>
              <p:cNvPr id="432"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3"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34" name=""/>
            <p:cNvGrpSpPr/>
            <p:nvPr/>
          </p:nvGrpSpPr>
          <p:grpSpPr>
            <a:xfrm>
              <a:off x="6273360" y="-21240"/>
              <a:ext cx="2966400" cy="3296160"/>
              <a:chOff x="6273360" y="-21240"/>
              <a:chExt cx="2966400" cy="3296160"/>
            </a:xfrm>
          </p:grpSpPr>
          <p:grpSp>
            <p:nvGrpSpPr>
              <p:cNvPr id="435" name=""/>
              <p:cNvGrpSpPr/>
              <p:nvPr/>
            </p:nvGrpSpPr>
            <p:grpSpPr>
              <a:xfrm>
                <a:off x="6990840" y="402840"/>
                <a:ext cx="1498680" cy="1104480"/>
                <a:chOff x="6990840" y="402840"/>
                <a:chExt cx="1498680" cy="1104480"/>
              </a:xfrm>
            </p:grpSpPr>
            <p:sp>
              <p:nvSpPr>
                <p:cNvPr id="436"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38" name=""/>
              <p:cNvGrpSpPr/>
              <p:nvPr/>
            </p:nvGrpSpPr>
            <p:grpSpPr>
              <a:xfrm>
                <a:off x="6273360" y="-21240"/>
                <a:ext cx="2867400" cy="2268360"/>
                <a:chOff x="6273360" y="-21240"/>
                <a:chExt cx="2867400" cy="2268360"/>
              </a:xfrm>
            </p:grpSpPr>
            <p:grpSp>
              <p:nvGrpSpPr>
                <p:cNvPr id="439" name=""/>
                <p:cNvGrpSpPr/>
                <p:nvPr/>
              </p:nvGrpSpPr>
              <p:grpSpPr>
                <a:xfrm>
                  <a:off x="7834680" y="842760"/>
                  <a:ext cx="1064160" cy="1141560"/>
                  <a:chOff x="7834680" y="842760"/>
                  <a:chExt cx="1064160" cy="1141560"/>
                </a:xfrm>
              </p:grpSpPr>
              <p:sp>
                <p:nvSpPr>
                  <p:cNvPr id="440"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1"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42" name=""/>
                <p:cNvGrpSpPr/>
                <p:nvPr/>
              </p:nvGrpSpPr>
              <p:grpSpPr>
                <a:xfrm>
                  <a:off x="7844760" y="770760"/>
                  <a:ext cx="1265760" cy="1052640"/>
                  <a:chOff x="7844760" y="770760"/>
                  <a:chExt cx="1265760" cy="1052640"/>
                </a:xfrm>
              </p:grpSpPr>
              <p:sp>
                <p:nvSpPr>
                  <p:cNvPr id="443"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45" name=""/>
                <p:cNvGrpSpPr/>
                <p:nvPr/>
              </p:nvGrpSpPr>
              <p:grpSpPr>
                <a:xfrm>
                  <a:off x="7840440" y="735480"/>
                  <a:ext cx="1288080" cy="828720"/>
                  <a:chOff x="7840440" y="735480"/>
                  <a:chExt cx="1288080" cy="828720"/>
                </a:xfrm>
              </p:grpSpPr>
              <p:sp>
                <p:nvSpPr>
                  <p:cNvPr id="446"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7"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48" name=""/>
                <p:cNvGrpSpPr/>
                <p:nvPr/>
              </p:nvGrpSpPr>
              <p:grpSpPr>
                <a:xfrm>
                  <a:off x="7837200" y="695880"/>
                  <a:ext cx="1303560" cy="669240"/>
                  <a:chOff x="7837200" y="695880"/>
                  <a:chExt cx="1303560" cy="669240"/>
                </a:xfrm>
              </p:grpSpPr>
              <p:sp>
                <p:nvSpPr>
                  <p:cNvPr id="449"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0"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51" name=""/>
                <p:cNvGrpSpPr/>
                <p:nvPr/>
              </p:nvGrpSpPr>
              <p:grpSpPr>
                <a:xfrm>
                  <a:off x="7852680" y="657720"/>
                  <a:ext cx="1223640" cy="417960"/>
                  <a:chOff x="7852680" y="657720"/>
                  <a:chExt cx="1223640" cy="417960"/>
                </a:xfrm>
              </p:grpSpPr>
              <p:sp>
                <p:nvSpPr>
                  <p:cNvPr id="452"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3"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54" name=""/>
                <p:cNvGrpSpPr/>
                <p:nvPr/>
              </p:nvGrpSpPr>
              <p:grpSpPr>
                <a:xfrm>
                  <a:off x="7871760" y="632880"/>
                  <a:ext cx="1106280" cy="184320"/>
                  <a:chOff x="7871760" y="632880"/>
                  <a:chExt cx="1106280" cy="184320"/>
                </a:xfrm>
              </p:grpSpPr>
              <p:sp>
                <p:nvSpPr>
                  <p:cNvPr id="455"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6"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57" name=""/>
                <p:cNvGrpSpPr/>
                <p:nvPr/>
              </p:nvGrpSpPr>
              <p:grpSpPr>
                <a:xfrm>
                  <a:off x="7845480" y="419760"/>
                  <a:ext cx="983520" cy="326880"/>
                  <a:chOff x="7845480" y="419760"/>
                  <a:chExt cx="983520" cy="326880"/>
                </a:xfrm>
              </p:grpSpPr>
              <p:sp>
                <p:nvSpPr>
                  <p:cNvPr id="458"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9"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60" name=""/>
                <p:cNvGrpSpPr/>
                <p:nvPr/>
              </p:nvGrpSpPr>
              <p:grpSpPr>
                <a:xfrm>
                  <a:off x="6538320" y="906120"/>
                  <a:ext cx="1063440" cy="1140840"/>
                  <a:chOff x="6538320" y="906120"/>
                  <a:chExt cx="1063440" cy="1140840"/>
                </a:xfrm>
              </p:grpSpPr>
              <p:sp>
                <p:nvSpPr>
                  <p:cNvPr id="461"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2"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63" name=""/>
                <p:cNvGrpSpPr/>
                <p:nvPr/>
              </p:nvGrpSpPr>
              <p:grpSpPr>
                <a:xfrm>
                  <a:off x="6303960" y="861120"/>
                  <a:ext cx="1266120" cy="1053000"/>
                  <a:chOff x="6303960" y="861120"/>
                  <a:chExt cx="1266120" cy="1053000"/>
                </a:xfrm>
              </p:grpSpPr>
              <p:sp>
                <p:nvSpPr>
                  <p:cNvPr id="464"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5"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66" name=""/>
                <p:cNvGrpSpPr/>
                <p:nvPr/>
              </p:nvGrpSpPr>
              <p:grpSpPr>
                <a:xfrm>
                  <a:off x="6285960" y="826920"/>
                  <a:ext cx="1288800" cy="828720"/>
                  <a:chOff x="6285960" y="826920"/>
                  <a:chExt cx="1288800" cy="828720"/>
                </a:xfrm>
              </p:grpSpPr>
              <p:sp>
                <p:nvSpPr>
                  <p:cNvPr id="467"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8"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69" name=""/>
                <p:cNvGrpSpPr/>
                <p:nvPr/>
              </p:nvGrpSpPr>
              <p:grpSpPr>
                <a:xfrm>
                  <a:off x="6273360" y="787320"/>
                  <a:ext cx="1303920" cy="668520"/>
                  <a:chOff x="6273360" y="787320"/>
                  <a:chExt cx="1303920" cy="668520"/>
                </a:xfrm>
              </p:grpSpPr>
              <p:sp>
                <p:nvSpPr>
                  <p:cNvPr id="470"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1"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72" name=""/>
                <p:cNvGrpSpPr/>
                <p:nvPr/>
              </p:nvGrpSpPr>
              <p:grpSpPr>
                <a:xfrm>
                  <a:off x="6338880" y="749520"/>
                  <a:ext cx="1222560" cy="416160"/>
                  <a:chOff x="6338880" y="749520"/>
                  <a:chExt cx="1222560" cy="416160"/>
                </a:xfrm>
              </p:grpSpPr>
              <p:sp>
                <p:nvSpPr>
                  <p:cNvPr id="473"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4"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75" name=""/>
                <p:cNvGrpSpPr/>
                <p:nvPr/>
              </p:nvGrpSpPr>
              <p:grpSpPr>
                <a:xfrm>
                  <a:off x="6436080" y="722880"/>
                  <a:ext cx="1106640" cy="184320"/>
                  <a:chOff x="6436080" y="722880"/>
                  <a:chExt cx="1106640" cy="184320"/>
                </a:xfrm>
              </p:grpSpPr>
              <p:sp>
                <p:nvSpPr>
                  <p:cNvPr id="476"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7"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78" name=""/>
                <p:cNvGrpSpPr/>
                <p:nvPr/>
              </p:nvGrpSpPr>
              <p:grpSpPr>
                <a:xfrm>
                  <a:off x="6585480" y="510120"/>
                  <a:ext cx="983880" cy="326880"/>
                  <a:chOff x="6585480" y="510120"/>
                  <a:chExt cx="983880" cy="326880"/>
                </a:xfrm>
              </p:grpSpPr>
              <p:sp>
                <p:nvSpPr>
                  <p:cNvPr id="479"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0"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81" name=""/>
                <p:cNvGrpSpPr/>
                <p:nvPr/>
              </p:nvGrpSpPr>
              <p:grpSpPr>
                <a:xfrm>
                  <a:off x="6638400" y="390600"/>
                  <a:ext cx="967320" cy="451800"/>
                  <a:chOff x="6638400" y="390600"/>
                  <a:chExt cx="967320" cy="451800"/>
                </a:xfrm>
              </p:grpSpPr>
              <p:sp>
                <p:nvSpPr>
                  <p:cNvPr id="482"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3"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84" name=""/>
                <p:cNvGrpSpPr/>
                <p:nvPr/>
              </p:nvGrpSpPr>
              <p:grpSpPr>
                <a:xfrm>
                  <a:off x="6751800" y="222480"/>
                  <a:ext cx="902520" cy="627120"/>
                  <a:chOff x="6751800" y="222480"/>
                  <a:chExt cx="902520" cy="627120"/>
                </a:xfrm>
              </p:grpSpPr>
              <p:sp>
                <p:nvSpPr>
                  <p:cNvPr id="485"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6"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87" name=""/>
                <p:cNvGrpSpPr/>
                <p:nvPr/>
              </p:nvGrpSpPr>
              <p:grpSpPr>
                <a:xfrm>
                  <a:off x="6867720" y="57600"/>
                  <a:ext cx="825120" cy="761760"/>
                  <a:chOff x="6867720" y="57600"/>
                  <a:chExt cx="825120" cy="761760"/>
                </a:xfrm>
              </p:grpSpPr>
              <p:sp>
                <p:nvSpPr>
                  <p:cNvPr id="488"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9"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90" name=""/>
                <p:cNvGrpSpPr/>
                <p:nvPr/>
              </p:nvGrpSpPr>
              <p:grpSpPr>
                <a:xfrm>
                  <a:off x="7111800" y="15840"/>
                  <a:ext cx="608040" cy="784800"/>
                  <a:chOff x="7111800" y="15840"/>
                  <a:chExt cx="608040" cy="784800"/>
                </a:xfrm>
              </p:grpSpPr>
              <p:sp>
                <p:nvSpPr>
                  <p:cNvPr id="491"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2"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93" name=""/>
                <p:cNvGrpSpPr/>
                <p:nvPr/>
              </p:nvGrpSpPr>
              <p:grpSpPr>
                <a:xfrm>
                  <a:off x="7287480" y="-21240"/>
                  <a:ext cx="466560" cy="808200"/>
                  <a:chOff x="7287480" y="-21240"/>
                  <a:chExt cx="466560" cy="808200"/>
                </a:xfrm>
              </p:grpSpPr>
              <p:sp>
                <p:nvSpPr>
                  <p:cNvPr id="494"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5"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96" name=""/>
                <p:cNvGrpSpPr/>
                <p:nvPr/>
              </p:nvGrpSpPr>
              <p:grpSpPr>
                <a:xfrm>
                  <a:off x="7793280" y="272160"/>
                  <a:ext cx="963720" cy="462960"/>
                  <a:chOff x="7793280" y="272160"/>
                  <a:chExt cx="963720" cy="462960"/>
                </a:xfrm>
              </p:grpSpPr>
              <p:sp>
                <p:nvSpPr>
                  <p:cNvPr id="497"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8"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499" name=""/>
                <p:cNvGrpSpPr/>
                <p:nvPr/>
              </p:nvGrpSpPr>
              <p:grpSpPr>
                <a:xfrm>
                  <a:off x="7737840" y="136080"/>
                  <a:ext cx="915840" cy="604800"/>
                  <a:chOff x="7737840" y="136080"/>
                  <a:chExt cx="915840" cy="604800"/>
                </a:xfrm>
              </p:grpSpPr>
              <p:sp>
                <p:nvSpPr>
                  <p:cNvPr id="500"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1"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502"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3"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504" name=""/>
                <p:cNvGrpSpPr/>
                <p:nvPr/>
              </p:nvGrpSpPr>
              <p:grpSpPr>
                <a:xfrm>
                  <a:off x="7665480" y="-11160"/>
                  <a:ext cx="497520" cy="790920"/>
                  <a:chOff x="7665480" y="-11160"/>
                  <a:chExt cx="497520" cy="790920"/>
                </a:xfrm>
              </p:grpSpPr>
              <p:sp>
                <p:nvSpPr>
                  <p:cNvPr id="505"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6"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07" name=""/>
                <p:cNvGrpSpPr/>
                <p:nvPr/>
              </p:nvGrpSpPr>
              <p:grpSpPr>
                <a:xfrm>
                  <a:off x="7662960" y="38160"/>
                  <a:ext cx="785880" cy="747360"/>
                  <a:chOff x="7662960" y="38160"/>
                  <a:chExt cx="785880" cy="747360"/>
                </a:xfrm>
              </p:grpSpPr>
              <p:sp>
                <p:nvSpPr>
                  <p:cNvPr id="508"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9"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0" name=""/>
                <p:cNvGrpSpPr/>
                <p:nvPr/>
              </p:nvGrpSpPr>
              <p:grpSpPr>
                <a:xfrm>
                  <a:off x="7708680" y="-1440"/>
                  <a:ext cx="177840" cy="746640"/>
                  <a:chOff x="7708680" y="-1440"/>
                  <a:chExt cx="177840" cy="746640"/>
                </a:xfrm>
              </p:grpSpPr>
              <p:sp>
                <p:nvSpPr>
                  <p:cNvPr id="511"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2"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3" name=""/>
                <p:cNvGrpSpPr/>
                <p:nvPr/>
              </p:nvGrpSpPr>
              <p:grpSpPr>
                <a:xfrm>
                  <a:off x="6711120" y="929880"/>
                  <a:ext cx="912960" cy="1248840"/>
                  <a:chOff x="6711120" y="929880"/>
                  <a:chExt cx="912960" cy="1248840"/>
                </a:xfrm>
              </p:grpSpPr>
              <p:sp>
                <p:nvSpPr>
                  <p:cNvPr id="514"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5"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6" name=""/>
                <p:cNvGrpSpPr/>
                <p:nvPr/>
              </p:nvGrpSpPr>
              <p:grpSpPr>
                <a:xfrm>
                  <a:off x="7014240" y="979200"/>
                  <a:ext cx="616680" cy="1248480"/>
                  <a:chOff x="7014240" y="979200"/>
                  <a:chExt cx="616680" cy="1248480"/>
                </a:xfrm>
              </p:grpSpPr>
              <p:sp>
                <p:nvSpPr>
                  <p:cNvPr id="517"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8"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19" name=""/>
                <p:cNvGrpSpPr/>
                <p:nvPr/>
              </p:nvGrpSpPr>
              <p:grpSpPr>
                <a:xfrm>
                  <a:off x="7311960" y="1001160"/>
                  <a:ext cx="364680" cy="1217880"/>
                  <a:chOff x="7311960" y="1001160"/>
                  <a:chExt cx="364680" cy="1217880"/>
                </a:xfrm>
              </p:grpSpPr>
              <p:sp>
                <p:nvSpPr>
                  <p:cNvPr id="520"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1"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22" name=""/>
                <p:cNvGrpSpPr/>
                <p:nvPr/>
              </p:nvGrpSpPr>
              <p:grpSpPr>
                <a:xfrm>
                  <a:off x="7798680" y="909360"/>
                  <a:ext cx="949680" cy="1229040"/>
                  <a:chOff x="7798680" y="909360"/>
                  <a:chExt cx="949680" cy="1229040"/>
                </a:xfrm>
              </p:grpSpPr>
              <p:sp>
                <p:nvSpPr>
                  <p:cNvPr id="523"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4"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25" name=""/>
                <p:cNvGrpSpPr/>
                <p:nvPr/>
              </p:nvGrpSpPr>
              <p:grpSpPr>
                <a:xfrm>
                  <a:off x="7786440" y="956160"/>
                  <a:ext cx="732960" cy="1261800"/>
                  <a:chOff x="7786440" y="956160"/>
                  <a:chExt cx="732960" cy="1261800"/>
                </a:xfrm>
              </p:grpSpPr>
              <p:sp>
                <p:nvSpPr>
                  <p:cNvPr id="526"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7"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28" name=""/>
                <p:cNvGrpSpPr/>
                <p:nvPr/>
              </p:nvGrpSpPr>
              <p:grpSpPr>
                <a:xfrm>
                  <a:off x="7756920" y="1005120"/>
                  <a:ext cx="510120" cy="1242000"/>
                  <a:chOff x="7756920" y="1005120"/>
                  <a:chExt cx="510120" cy="1242000"/>
                </a:xfrm>
              </p:grpSpPr>
              <p:sp>
                <p:nvSpPr>
                  <p:cNvPr id="529"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0"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31" name=""/>
                <p:cNvGrpSpPr/>
                <p:nvPr/>
              </p:nvGrpSpPr>
              <p:grpSpPr>
                <a:xfrm>
                  <a:off x="7733880" y="1058760"/>
                  <a:ext cx="290160" cy="1155960"/>
                  <a:chOff x="7733880" y="1058760"/>
                  <a:chExt cx="290160" cy="1155960"/>
                </a:xfrm>
              </p:grpSpPr>
              <p:sp>
                <p:nvSpPr>
                  <p:cNvPr id="532"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3"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534" name=""/>
                <p:cNvGrpSpPr/>
                <p:nvPr/>
              </p:nvGrpSpPr>
              <p:grpSpPr>
                <a:xfrm>
                  <a:off x="7500960" y="1077480"/>
                  <a:ext cx="276120" cy="1131480"/>
                  <a:chOff x="7500960" y="1077480"/>
                  <a:chExt cx="276120" cy="1131480"/>
                </a:xfrm>
              </p:grpSpPr>
              <p:sp>
                <p:nvSpPr>
                  <p:cNvPr id="535"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6"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
            <p:nvSpPr>
              <p:cNvPr id="537"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0"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1"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2"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3"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4"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5"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6"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7"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8"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9"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0"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1"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2"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3"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4"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5"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6"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7"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58"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6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cc00"/>
                </a:solidFill>
                <a:latin typeface="Arial Blac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56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400" spc="-1" strike="noStrike">
                <a:solidFill>
                  <a:srgbClr val="ffcc00"/>
                </a:solidFill>
                <a:latin typeface="Arial Blac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e-IL"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56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he-IL" sz="1400" spc="-1" strike="noStrike">
                <a:solidFill>
                  <a:srgbClr val="ffcc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7D0D0-5EF2-43AC-A846-D172BE872B18}" type="slidenum">
              <a:rPr b="0" lang="he-IL"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3e3ff"/>
                </a:solidFill>
                <a:latin typeface="Arial"/>
              </a:rPr>
              <a:t>Global Warming </a:t>
            </a:r>
            <a:endParaRPr b="0" lang="en-US" sz="6600" spc="-1" strike="noStrike">
              <a:solidFill>
                <a:srgbClr val="e3e3ff"/>
              </a:solidFill>
              <a:latin typeface="Arial"/>
            </a:endParaRPr>
          </a:p>
        </p:txBody>
      </p:sp>
      <p:sp>
        <p:nvSpPr>
          <p:cNvPr id="774"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ydney Carlson and Kelsey Hamm</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773"/>
                                        </p:tgtEl>
                                        <p:attrNameLst>
                                          <p:attrName>style.visibility</p:attrName>
                                        </p:attrNameLst>
                                      </p:cBhvr>
                                      <p:to>
                                        <p:strVal val="visible"/>
                                      </p:to>
                                    </p:set>
                                    <p:animEffect filter="fade" transition="in">
                                      <p:cBhvr additive="repl">
                                        <p:cTn id="7" dur="1000">
                                          <p:stCondLst>
                                            <p:cond delay="0"/>
                                          </p:stCondLst>
                                        </p:cTn>
                                        <p:tgtEl>
                                          <p:spTgt spid="7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774">
                                            <p:txEl>
                                              <p:pRg st="0" end="0"/>
                                            </p:txEl>
                                          </p:spTgt>
                                        </p:tgtEl>
                                        <p:attrNameLst>
                                          <p:attrName>style.visibility</p:attrName>
                                        </p:attrNameLst>
                                      </p:cBhvr>
                                      <p:to>
                                        <p:strVal val="visible"/>
                                      </p:to>
                                    </p:set>
                                    <p:animEffect filter="fade" transition="in">
                                      <p:cBhvr additive="repl">
                                        <p:cTn id="12" dur="1000">
                                          <p:stCondLst>
                                            <p:cond delay="0"/>
                                          </p:stCondLst>
                                        </p:cTn>
                                        <p:tgtEl>
                                          <p:spTgt spid="7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9680"/>
            <a:ext cx="8512200" cy="132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global warming?</a:t>
            </a:r>
            <a:endParaRPr b="0" lang="en-US" sz="4400" spc="-1" strike="noStrike">
              <a:solidFill>
                <a:srgbClr val="b7e7ff"/>
              </a:solidFill>
              <a:latin typeface="Arial"/>
            </a:endParaRPr>
          </a:p>
        </p:txBody>
      </p:sp>
      <p:sp>
        <p:nvSpPr>
          <p:cNvPr id="776" name="PlaceHolder 2"/>
          <p:cNvSpPr>
            <a:spLocks noGrp="1"/>
          </p:cNvSpPr>
          <p:nvPr>
            <p:ph/>
          </p:nvPr>
        </p:nvSpPr>
        <p:spPr>
          <a:xfrm>
            <a:off x="837720" y="1905120"/>
            <a:ext cx="8007480" cy="5052960"/>
          </a:xfrm>
          <a:prstGeom prst="rect">
            <a:avLst/>
          </a:prstGeom>
          <a:noFill/>
          <a:ln w="0">
            <a:noFill/>
          </a:ln>
        </p:spPr>
        <p:txBody>
          <a:bodyPr lIns="90000" rIns="90000" tIns="46800" bIns="46800" anchor="t">
            <a:normAutofit/>
          </a:bodyPr>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Arial"/>
              </a:rPr>
              <a:t>    </a:t>
            </a:r>
            <a:r>
              <a:rPr b="0" lang="en-US" sz="2800" spc="-1" strike="noStrike">
                <a:solidFill>
                  <a:srgbClr val="ffffff"/>
                </a:solidFill>
                <a:latin typeface="Arial"/>
              </a:rPr>
              <a:t>Global warming is the heating up of the earth’s near-surface air and the ocean. Which melts glaciers, and increases the sea level. The sea has been said to have risen 1.8mm per year for the past century.</a:t>
            </a:r>
            <a:endParaRPr b="0" lang="en-US" sz="2800" spc="-1" strike="noStrike">
              <a:solidFill>
                <a:srgbClr val="ffffff"/>
              </a:solidFill>
              <a:latin typeface="Arial"/>
            </a:endParaRPr>
          </a:p>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Arial"/>
              </a:rPr>
              <a:t>     </a:t>
            </a:r>
            <a:r>
              <a:rPr b="0" lang="en-US" sz="2800" spc="-1" strike="noStrike">
                <a:solidFill>
                  <a:srgbClr val="ffffff"/>
                </a:solidFill>
                <a:latin typeface="Arial"/>
              </a:rPr>
              <a:t>Scientists say that global warming is caused by human activity, and mainly due to increasing greenhouse gases and deforestation.</a:t>
            </a:r>
            <a:endParaRPr b="0" lang="en-US" sz="2800" spc="-1" strike="noStrike">
              <a:solidFill>
                <a:srgbClr val="ffffff"/>
              </a:solidFill>
              <a:latin typeface="Arial"/>
            </a:endParaRPr>
          </a:p>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ffffff"/>
              </a:solidFill>
              <a:latin typeface="Arial"/>
            </a:endParaRPr>
          </a:p>
          <a:p>
            <a:pPr marL="3430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04920"/>
            <a:ext cx="7545600" cy="14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w do human activities cause global warming?</a:t>
            </a:r>
            <a:endParaRPr b="1" lang="en-US" sz="4400" spc="-1" strike="noStrike">
              <a:solidFill>
                <a:srgbClr val="eaeaea"/>
              </a:solidFill>
              <a:latin typeface="Tahoma"/>
            </a:endParaRPr>
          </a:p>
        </p:txBody>
      </p:sp>
      <p:sp>
        <p:nvSpPr>
          <p:cNvPr id="778" name="PlaceHolder 2"/>
          <p:cNvSpPr>
            <a:spLocks noGrp="1"/>
          </p:cNvSpPr>
          <p:nvPr>
            <p:ph/>
          </p:nvPr>
        </p:nvSpPr>
        <p:spPr>
          <a:xfrm>
            <a:off x="1066680" y="1980720"/>
            <a:ext cx="7545600" cy="41166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re are many things that have been said to cause global warming mostly from human activities that pollute the air with greenhouse gases.</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ffffff"/>
                </a:solidFill>
                <a:latin typeface="Tahoma"/>
              </a:rPr>
              <a:t>Cars</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ffffff"/>
                </a:solidFill>
                <a:latin typeface="Tahoma"/>
              </a:rPr>
              <a:t>Factories</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ffffff"/>
                </a:solidFill>
                <a:latin typeface="Tahoma"/>
              </a:rPr>
              <a:t>Deforestation</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ffffff"/>
                </a:solidFill>
                <a:latin typeface="Tahoma"/>
              </a:rPr>
              <a:t>Fossil fuel burning</a:t>
            </a:r>
            <a:endParaRPr b="0" lang="en-US" sz="2400" spc="-1" strike="noStrike">
              <a:solidFill>
                <a:srgbClr val="ffffff"/>
              </a:solidFill>
              <a:latin typeface="Tahoma"/>
            </a:endParaRPr>
          </a:p>
          <a:p>
            <a:pPr marL="3358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ffffff"/>
              </a:solidFill>
              <a:latin typeface="Tahoma"/>
            </a:endParaRPr>
          </a:p>
          <a:p>
            <a:pPr marL="3358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920"/>
            <a:ext cx="8231040" cy="114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does global warming impact the planet?</a:t>
            </a:r>
            <a:endParaRPr b="0" lang="en-US" sz="4400" spc="-1" strike="noStrike">
              <a:solidFill>
                <a:srgbClr val="ffffcc"/>
              </a:solidFill>
              <a:latin typeface="Arial"/>
            </a:endParaRPr>
          </a:p>
        </p:txBody>
      </p:sp>
      <p:sp>
        <p:nvSpPr>
          <p:cNvPr id="780" name="PlaceHolder 2"/>
          <p:cNvSpPr>
            <a:spLocks noGrp="1"/>
          </p:cNvSpPr>
          <p:nvPr>
            <p:ph/>
          </p:nvPr>
        </p:nvSpPr>
        <p:spPr>
          <a:xfrm>
            <a:off x="457200" y="1600200"/>
            <a:ext cx="8231040" cy="4533840"/>
          </a:xfrm>
          <a:prstGeom prst="rect">
            <a:avLst/>
          </a:prstGeom>
          <a:noFill/>
          <a:ln w="0">
            <a:noFill/>
          </a:ln>
        </p:spPr>
        <p:txBody>
          <a:bodyPr lIns="0" rIns="0" tIns="0" bIns="0" anchor="t">
            <a:normAutofit/>
          </a:bodyPr>
          <a:p>
            <a:pPr marL="343080" indent="-343080">
              <a:spcBef>
                <a:spcPts val="7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eaeaea"/>
                </a:solidFill>
                <a:latin typeface="Verdana"/>
              </a:rPr>
              <a:t>Global warming will impact the planet in many w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eaeaea"/>
                </a:solidFill>
                <a:latin typeface="Verdana"/>
              </a:rPr>
              <a:t>It will be hott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eaeaea"/>
                </a:solidFill>
                <a:latin typeface="Verdana"/>
              </a:rPr>
              <a:t>The polar ice caps will melt, increasing the amount of water in the ocea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eaeaea"/>
                </a:solidFill>
                <a:latin typeface="Verdana"/>
              </a:rPr>
              <a:t>It will destroy the Ozone Layer</a:t>
            </a: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301680"/>
            <a:ext cx="7773840" cy="14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w can people slow the rate of global warming?</a:t>
            </a:r>
            <a:endParaRPr b="0" lang="en-US" sz="4400" spc="-1" strike="noStrike">
              <a:solidFill>
                <a:srgbClr val="ffffff"/>
              </a:solidFill>
              <a:latin typeface="Arial Black"/>
            </a:endParaRPr>
          </a:p>
        </p:txBody>
      </p:sp>
      <p:sp>
        <p:nvSpPr>
          <p:cNvPr id="782" name="PlaceHolder 2"/>
          <p:cNvSpPr>
            <a:spLocks noGrp="1"/>
          </p:cNvSpPr>
          <p:nvPr>
            <p:ph/>
          </p:nvPr>
        </p:nvSpPr>
        <p:spPr>
          <a:xfrm>
            <a:off x="837720" y="1905120"/>
            <a:ext cx="8007480" cy="5470560"/>
          </a:xfrm>
          <a:prstGeom prst="rect">
            <a:avLst/>
          </a:prstGeom>
          <a:noFill/>
          <a:ln w="0">
            <a:noFill/>
          </a:ln>
        </p:spPr>
        <p:txBody>
          <a:bodyPr lIns="0" rIns="0" tIns="0" bIns="0" anchor="t">
            <a:normAutofit/>
          </a:bodyPr>
          <a:p>
            <a:pPr marL="343080" indent="-343080">
              <a:spcBef>
                <a:spcPts val="799"/>
              </a:spcBef>
              <a:buClr>
                <a:srgbClr val="ff3399"/>
              </a:buClr>
              <a:buFont typeface="Arial Black"/>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ffcc00"/>
                </a:solidFill>
                <a:latin typeface="Arial Black"/>
              </a:rPr>
              <a:t>People can help stop global warming by recreating landscapes and gathering information on specific regions and the people who inhabit them. We can also try to conserve more energy and water. We can accomplish this by using flourescent light bulbs, not using the AC and heater as much as usual, try to take shorter showers, conserve as much water as possible, and one of the biggest thing that you can do is recycle. It is so easy and non-time consuming</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3" name="" descr=""/>
          <p:cNvPicPr/>
          <p:nvPr/>
        </p:nvPicPr>
        <p:blipFill>
          <a:blip r:embed="rId2"/>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End</a:t>
            </a:r>
            <a:endParaRPr b="0" lang="en-US" sz="4400" spc="-1" strike="noStrike">
              <a:solidFill>
                <a:srgbClr val="b7e7ff"/>
              </a:solidFill>
              <a:latin typeface="Arial"/>
            </a:endParaRPr>
          </a:p>
        </p:txBody>
      </p:sp>
      <p:pic>
        <p:nvPicPr>
          <p:cNvPr id="785" name="" descr=""/>
          <p:cNvPicPr/>
          <p:nvPr/>
        </p:nvPicPr>
        <p:blipFill>
          <a:blip r:embed="rId2"/>
          <a:stretch/>
        </p:blipFill>
        <p:spPr>
          <a:xfrm>
            <a:off x="301680" y="1676160"/>
            <a:ext cx="8540640" cy="4422600"/>
          </a:xfrm>
          <a:prstGeom prst="rect">
            <a:avLst/>
          </a:prstGeom>
          <a:ln w="0">
            <a:noFill/>
          </a:ln>
        </p:spPr>
      </p:pic>
      <p:pic>
        <p:nvPicPr>
          <p:cNvPr id="786" name="" descr=""/>
          <p:cNvPicPr/>
          <p:nvPr/>
        </p:nvPicPr>
        <p:blipFill>
          <a:blip r:embed="rId3"/>
          <a:stretch/>
        </p:blipFill>
        <p:spPr>
          <a:xfrm>
            <a:off x="304920" y="1752480"/>
            <a:ext cx="3905280" cy="4267440"/>
          </a:xfrm>
          <a:prstGeom prst="rect">
            <a:avLst/>
          </a:prstGeom>
          <a:ln w="0">
            <a:noFill/>
          </a:ln>
        </p:spPr>
      </p:pic>
      <p:pic>
        <p:nvPicPr>
          <p:cNvPr id="787" name="" descr=""/>
          <p:cNvPicPr/>
          <p:nvPr/>
        </p:nvPicPr>
        <p:blipFill>
          <a:blip r:embed="rId4"/>
          <a:stretch/>
        </p:blipFill>
        <p:spPr>
          <a:xfrm>
            <a:off x="4114800" y="1676520"/>
            <a:ext cx="4724280" cy="2361960"/>
          </a:xfrm>
          <a:prstGeom prst="rect">
            <a:avLst/>
          </a:prstGeom>
          <a:ln w="0">
            <a:noFill/>
          </a:ln>
        </p:spPr>
      </p:pic>
      <p:pic>
        <p:nvPicPr>
          <p:cNvPr id="788" name="" descr=""/>
          <p:cNvPicPr/>
          <p:nvPr/>
        </p:nvPicPr>
        <p:blipFill>
          <a:blip r:embed="rId5"/>
          <a:stretch/>
        </p:blipFill>
        <p:spPr>
          <a:xfrm>
            <a:off x="4191120" y="3733920"/>
            <a:ext cx="4610160" cy="237168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udent</dc:creator>
  <dc:description/>
  <dc:language>en-US</dc:language>
  <cp:lastModifiedBy>חגית</cp:lastModifiedBy>
  <dcterms:modified xsi:type="dcterms:W3CDTF">2009-06-09T15:29:07Z</dcterms:modified>
  <cp:revision>3</cp:revision>
  <dc:subject/>
  <dc:title>Global Warming </dc:title>
</cp:coreProperties>
</file>